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7247-731B-46C6-BD36-774205BE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AE2-843B-447D-9834-5F8F2F6B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7DE8-F11D-413E-9107-5FD86469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244-3F37-45C7-873E-5C30BE7A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8427-B4F6-4023-A267-0279805B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516F-96E9-4FEB-B3C2-96C07010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2D02-2D73-45C6-A396-5AAB08B7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4750-837F-4D5B-9832-B7FBD984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7916-1319-40FD-BB2E-1E2D2810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B9BB-2796-4E2D-97A2-7AEF81E1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981B-8F1F-40B6-8F8B-661D1B00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95E-134F-4154-8164-825AE3D3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5932-DC6D-4CA2-944D-071A517F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F1E0-A356-4807-8C44-715934C5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79A1-0E0D-475E-BF64-D0588CB6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F170-E7D1-40D5-9A4E-26ABC991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AF72-3610-4D4D-AB54-3093D7C2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83E2-3444-4342-B950-9CEA7D15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B9A-CFFC-4137-8112-778E69D1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EAA-A772-43AD-80F3-9ACBD029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8DF-2027-4D40-9058-95D4CF90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332-9DC1-44FF-BA32-37267A46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CB0-79C9-4C2D-B222-0D012568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ACB-BD33-488F-AE66-9CFD5D2B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985C-DEF1-451C-8038-C9D77E90F6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EAFB-4B26-4313-9467-DFAA9ECAC7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Massassoit National Wildlife Refug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assoit, Mary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king and Bik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fuge offers over 10 miles of paved trails for walking or bik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e Trail folllows the dunes from the Visitor Center 5 miles to Brant Poi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52640" y="159984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ildlife View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6840" y="1599840"/>
            <a:ext cx="4033800" cy="4530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many species of bird, deer, small animals, and wild ponys from trai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ation decks give excellent view of ducks, geese, and other migratory bir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fuge Regula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/crabbing permitted in designated are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ge pools closed to all bo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ing not permit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ats permitted on Brant Point from September 1 to March 1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fires prohibited except by special perm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afety Inform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precautions to avoid ticks that might carry Lyme dis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approach wildlif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ar protective clothing and use repellent against mosquito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2T21:05:04Z</dcterms:created>
  <dc:creator>Cat Skintik</dc:creator>
  <dc:description/>
  <dc:language>en-US</dc:language>
  <cp:lastModifiedBy>Julie Hotchkiss</cp:lastModifiedBy>
  <dcterms:modified xsi:type="dcterms:W3CDTF">2004-09-25T17:53:25Z</dcterms:modified>
  <cp:revision>7</cp:revision>
  <dc:subject/>
  <dc:title>PowerPoint Presentation</dc:title>
</cp:coreProperties>
</file>